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040-52B9-46CD-9C5B-FCBC1319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5F9-33CC-494F-A3E1-5E280388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4FD-AE3E-4DD9-A890-46DFE998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FA7-78C3-41DB-B38E-0C2C5645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3C1C-86BD-42D8-A7DA-0F4C42CE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AE1-3731-4013-B21C-9AD895E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EB2-E9D4-481A-AC9D-4F8DC6D0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3D99-62E4-4432-A2FC-4C3C4C4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6FB2-8BD2-4AEB-AF2F-A77DBE11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8886-9334-408D-A14B-3FCFD57F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5F6A-A11D-4734-8716-3EF3106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D5E-0599-4918-BC67-37F30F2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6E91-5960-4E92-A586-71DB441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034F-5A59-4806-BAEE-B4FF858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2404-035B-40C8-86F2-7F333EE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C51E-6C1C-4C39-B772-F4AD7C04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5F4B-BE76-4D6B-A729-702026B3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27F-D91E-4CEF-84D2-C2127159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3EA-BCE9-4F35-ADA8-63E1CB08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664-3386-4503-8E4C-AC368855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7C0-3DAA-4864-81D1-FACD8ED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1F6-1A36-4969-8B1C-8791CCF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200-863E-424D-93BD-2208D6A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59F-B1D0-4C8D-809C-73F891B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3F28-667F-4CEB-B006-3E66F10752F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C608-B195-4082-8748-72A5ECFD6DF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en/5/5d/SteamTractor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b/Heat_affected_crop_during_a_green_drought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Fields_outside_benambra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2:  Farmers and th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eat Plai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Land Rush"/>
          <p:cNvPicPr/>
          <p:nvPr/>
        </p:nvPicPr>
        <p:blipFill>
          <a:blip r:embed="rId2"/>
          <a:stretch/>
        </p:blipFill>
        <p:spPr>
          <a:xfrm>
            <a:off x="228600" y="1176480"/>
            <a:ext cx="8763120" cy="5402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nd Rush” &amp; “Sooners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oners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" y="1044720"/>
            <a:ext cx="769608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.  The Wheat Belt &amp; Innovation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1.  McCormick Reaper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7" name="" descr="Mccormick Reaper, circa 1848"/>
          <p:cNvPicPr/>
          <p:nvPr/>
        </p:nvPicPr>
        <p:blipFill>
          <a:blip r:embed="rId3"/>
          <a:stretch/>
        </p:blipFill>
        <p:spPr>
          <a:xfrm>
            <a:off x="1066680" y="1143000"/>
            <a:ext cx="74678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 Steam Trac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9" name="" descr="File:SteamTracto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20574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 Bonanza Fa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gle cro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0,000 acres or mo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undred of men for lab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3" name="" descr="Photo of harvesting on a bonanza farm: men and machines."/>
          <p:cNvPicPr/>
          <p:nvPr/>
        </p:nvPicPr>
        <p:blipFill>
          <a:blip r:embed="rId2"/>
          <a:stretch/>
        </p:blipFill>
        <p:spPr>
          <a:xfrm>
            <a:off x="3352680" y="1714680"/>
            <a:ext cx="57913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 Dry far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5" name="" descr="File:Heat affected crop during a green drough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2089080"/>
            <a:ext cx="72388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.  Hard Times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880’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rough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ernational competi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.  Wheat surplus =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9" name="" descr="File:Fields outside benambr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097080"/>
            <a:ext cx="9144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armers debt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chines expens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icious cycle: bad weather, more land, more machines, more deb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R shipping fe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241880" y="2129400"/>
            <a:ext cx="4623120" cy="4005360"/>
            <a:chOff x="4241880" y="2129400"/>
            <a:chExt cx="4623120" cy="4005360"/>
          </a:xfrm>
        </p:grpSpPr>
        <p:sp>
          <p:nvSpPr>
            <p:cNvPr id="183" name="_s27657"/>
            <p:cNvSpPr/>
            <p:nvPr/>
          </p:nvSpPr>
          <p:spPr>
            <a:xfrm>
              <a:off x="5142960" y="2129400"/>
              <a:ext cx="2820240" cy="2819880"/>
            </a:xfrm>
            <a:custGeom>
              <a:avLst/>
              <a:gdLst>
                <a:gd name="textAreaLeft" fmla="*/ 0 w 2820240"/>
                <a:gd name="textAreaRight" fmla="*/ 2820600 w 282024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_s27658"/>
            <p:cNvSpPr/>
            <p:nvPr/>
          </p:nvSpPr>
          <p:spPr>
            <a:xfrm rot="7200000">
              <a:off x="5528880" y="2795760"/>
              <a:ext cx="2819880" cy="281988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_s27660"/>
            <p:cNvSpPr/>
            <p:nvPr/>
          </p:nvSpPr>
          <p:spPr>
            <a:xfrm rot="14400000">
              <a:off x="4757760" y="2798280"/>
              <a:ext cx="2819880" cy="282024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820240"/>
                <a:gd name="textAreaBottom" fmla="*/ 2820600 h 28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_s27655"/>
            <p:cNvSpPr/>
            <p:nvPr/>
          </p:nvSpPr>
          <p:spPr>
            <a:xfrm>
              <a:off x="7326360" y="2645640"/>
              <a:ext cx="11314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Bad harvest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_s27656"/>
            <p:cNvSpPr/>
            <p:nvPr/>
          </p:nvSpPr>
          <p:spPr>
            <a:xfrm>
              <a:off x="5987160" y="4963680"/>
              <a:ext cx="11314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Purchase more land to 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Recoup some loss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_s27659"/>
            <p:cNvSpPr/>
            <p:nvPr/>
          </p:nvSpPr>
          <p:spPr>
            <a:xfrm>
              <a:off x="4648320" y="2645640"/>
              <a:ext cx="11314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More equipment is needed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To properly harvest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irst impressions:uninhabitable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" descr="Wagon Train Along the Oregon Trail"/>
          <p:cNvPicPr/>
          <p:nvPr/>
        </p:nvPicPr>
        <p:blipFill>
          <a:blip r:embed="rId2"/>
          <a:stretch/>
        </p:blipFill>
        <p:spPr>
          <a:xfrm>
            <a:off x="762120" y="852480"/>
            <a:ext cx="77342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ugou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116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" descr="John Kurnicki root cellar of Finnish type, St. Louis County."/>
          <p:cNvPicPr/>
          <p:nvPr/>
        </p:nvPicPr>
        <p:blipFill>
          <a:blip r:embed="rId2"/>
          <a:stretch/>
        </p:blipFill>
        <p:spPr>
          <a:xfrm>
            <a:off x="1600200" y="1981080"/>
            <a:ext cx="63244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533600"/>
            <a:ext cx="8458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dd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73915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Frontier Family Outside Their Sod Home"/>
          <p:cNvPicPr/>
          <p:nvPr/>
        </p:nvPicPr>
        <p:blipFill>
          <a:blip r:embed="rId2"/>
          <a:stretch/>
        </p:blipFill>
        <p:spPr>
          <a:xfrm>
            <a:off x="914400" y="476280"/>
            <a:ext cx="7467480" cy="5402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9480" y="371520"/>
            <a:ext cx="79250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.  Homestead Act of 186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60 acr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5 yrs cultivation(take care of i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nd for farming was ba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ption of purchasing it at $1.25 acre after 6 month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.  Difficult Liv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e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carcity of water = we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airie fir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warms of grasshopp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lizzards and extreme co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22T17:14:01Z</dcterms:modified>
  <cp:revision>9</cp:revision>
  <dc:subject/>
  <dc:title>PowerPoint Presentation</dc:title>
</cp:coreProperties>
</file>